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71C-8B70-4E80-88B6-532ECA0C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118-4D4F-42AC-B693-F202DF84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270-0A63-4E9B-9694-C71F60EC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D71-3BE5-41BB-8C56-64925598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A9D-ED30-4CCA-9A73-88A2087A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778-74E0-442F-B4DC-E7908CAB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91C-54F4-4244-9849-E79C121E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22D-2D9C-4F93-BF67-35A56B54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BD1-23FA-4566-9243-F445C68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755-DDD9-40DC-8D5F-D8DB6D8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168-67EE-4BB1-A2DA-38AB4A65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73A-588C-494B-8DB5-9ABBE983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BD01-6F1D-4EED-98FB-2AE2EC637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0 de mayo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57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son verbos de cambio rad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2743200" cy="12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57800" y="2639880"/>
            <a:ext cx="2057400" cy="162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12040" y="2057400"/>
            <a:ext cx="165564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895480" y="44197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715000" y="53341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5720" y="52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stem-changing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3436920"/>
          <a:ext cx="8763120" cy="2582640"/>
        </p:xfrm>
        <a:graphic>
          <a:graphicData uri="http://schemas.openxmlformats.org/drawingml/2006/table">
            <a:tbl>
              <a:tblPr/>
              <a:tblGrid>
                <a:gridCol w="2743200"/>
                <a:gridCol w="60199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971800" y="39765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4510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5195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9765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45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5195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038480"/>
            <a:ext cx="46483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87631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8600" y="4038480"/>
            <a:ext cx="0" cy="19051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4038480"/>
            <a:ext cx="0" cy="99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5029200"/>
            <a:ext cx="41911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91720" y="5029200"/>
            <a:ext cx="0" cy="99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19920"/>
            <a:ext cx="472428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5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erbs are also called </a:t>
            </a:r>
            <a:r>
              <a:rPr b="1" lang="en-US" sz="2200" spc="-1" strike="noStrike">
                <a:solidFill>
                  <a:srgbClr val="cc0099"/>
                </a:solidFill>
                <a:latin typeface="Arial"/>
              </a:rPr>
              <a:t>BO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bs; you only change the stem of the verb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b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320" y="1417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d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i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se verbs are often followed by an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4890960"/>
            <a:ext cx="39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9040" y="5500800"/>
            <a:ext cx="43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96120" y="487692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40560" y="5500800"/>
            <a:ext cx="39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.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11:16Z</dcterms:created>
  <dc:creator>Helen Zumaeta</dc:creator>
  <dc:description/>
  <dc:language>en-US</dc:language>
  <cp:lastModifiedBy>Helen Zumaeta</cp:lastModifiedBy>
  <dcterms:modified xsi:type="dcterms:W3CDTF">2012-06-01T18:37:54Z</dcterms:modified>
  <cp:revision>3</cp:revision>
  <dc:subject/>
  <dc:title>Me llamo _______ Clase 6NH La fecha es el 30 de mayo del 2012</dc:title>
</cp:coreProperties>
</file>